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52B-2B81-4116-AC58-B1835004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2FA-439C-4D4F-9E3E-F87C07BE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7A2-A525-4675-B7BC-AA9AB94F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176-4B95-4BBA-9689-35236C07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875-397A-4002-9096-506F536F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871-1A93-470C-B164-F6227BFB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765-1096-4FFC-863D-21A70D0C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4E7-F706-4393-8748-6EC6E67A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5C4-1D22-4C1B-9EFA-5013D298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E7A-095D-4A65-8ABD-C3592EF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60D-6509-471C-B61D-CBA0FA4E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8B6-03E4-433C-8886-B8FA918A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80C8-C817-4010-8EF1-F049FC416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By Sean Klopoto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3200" y="1523880"/>
            <a:ext cx="4038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e000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Impact"/>
              </a:rPr>
              <a:t>Las Comid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e00000"/>
                  </a:gs>
                  <a:gs pos="100000">
                    <a:srgbClr val="0000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90920" y="380880"/>
            <a:ext cx="3809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Desayuno</a:t>
            </a:r>
            <a:endParaRPr b="0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El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248520"/>
            <a:ext cx="6705720" cy="45972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000"/>
                </a:solidFill>
                <a:latin typeface="Arial"/>
              </a:rPr>
              <a:t>Para el desayuno me gusta comer el hu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76720" y="1295280"/>
            <a:ext cx="1760400" cy="252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El 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15000" y="15238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7220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s p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át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765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800240" y="38862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4674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4038480"/>
            <a:ext cx="3233880" cy="2152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81280" y="46483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fé con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562720" y="4114800"/>
            <a:ext cx="2171520" cy="210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 flipV="1">
            <a:off x="3200400" y="49528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572000" y="57913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819520" y="152280"/>
            <a:ext cx="2971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El Almuerz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6095880"/>
            <a:ext cx="56386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el almuerzo me gusta comer una hamburgu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0504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3429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Una Hambur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29000" y="3505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l 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943600" y="1523880"/>
            <a:ext cx="2762280" cy="165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244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a Coca-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04920" y="3886200"/>
            <a:ext cx="2381040" cy="192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19520" y="4191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 Hot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43200" y="5029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75248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343400" y="28954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7238880" y="28191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352680" y="53352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a Cen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2847960" cy="214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200400" y="14479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095880" y="1371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304920" y="4343400"/>
            <a:ext cx="1914480" cy="2390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733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Bif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Maris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00200" y="327636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419360" y="30477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324480" y="32763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676160" y="5029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5943600"/>
            <a:ext cx="5486400" cy="459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la cena me gusta comer 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05120" y="762120"/>
            <a:ext cx="4419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313ed"/>
                    </a:gs>
                    <a:gs pos="50000">
                      <a:srgbClr val="12ee37"/>
                    </a:gs>
                    <a:gs pos="100000">
                      <a:srgbClr val="1313ed"/>
                    </a:gs>
                  </a:gsLst>
                  <a:lin ang="5400000"/>
                </a:gradFill>
                <a:latin typeface="Impact"/>
              </a:rPr>
              <a:t>Thanks f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313ed"/>
                  </a:gs>
                  <a:gs pos="50000">
                    <a:srgbClr val="12ee37"/>
                  </a:gs>
                  <a:gs pos="100000">
                    <a:srgbClr val="1313ed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0" y="365760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00cc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Times New Roman"/>
              </a:rPr>
              <a:t>WATCHING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00cc00"/>
                  </a:gs>
                  <a:gs pos="100000">
                    <a:srgbClr val="fff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24:57Z</dcterms:created>
  <dc:creator>sklopotoski</dc:creator>
  <dc:description/>
  <dc:language>en-US</dc:language>
  <cp:lastModifiedBy>sklopotoski</cp:lastModifiedBy>
  <dcterms:modified xsi:type="dcterms:W3CDTF">2012-04-05T14:02:35Z</dcterms:modified>
  <cp:revision>4</cp:revision>
  <dc:subject/>
  <dc:title>Slide 1</dc:title>
</cp:coreProperties>
</file>